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713-00B7-4197-932F-AD9EE1CD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C3E-8D16-4F28-ABA5-B218DAD7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195-B296-4F29-A2F9-FD9AE376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2D7-C1FD-4470-8F40-DADCF3F5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35D-62F0-4FB4-B7F9-E48572C4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165-0B45-4E0C-B896-346644C9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260-18D3-480E-963E-5FC9C17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BE3-6661-43B0-A5CD-C77D313F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4D4-9425-4CC7-B35C-D22D920E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DB0-118D-4892-8E14-B4D7EFC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8FB-1C67-48F8-8431-F0AF072F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BC5-FA6F-4E0A-AF44-3112837D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74CD-CAC4-4EBC-8FCC-EF14D5CC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pro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48360" y="4508640"/>
            <a:ext cx="4248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1557360"/>
            <a:ext cx="698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First person: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, we, me,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Second person: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Third person: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he, she, it, they, him her, it,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3357720"/>
            <a:ext cx="651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1" lang="en-NZ" sz="6600" spc="-1" strike="noStrike">
                <a:solidFill>
                  <a:srgbClr val="333399"/>
                </a:solidFill>
                <a:latin typeface="Arial"/>
              </a:rPr>
              <a:t>nou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replaces a no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979640" y="4811760"/>
            <a:ext cx="2808360" cy="178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82920" y="5084640"/>
            <a:ext cx="194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ey </a:t>
            </a:r>
            <a:r>
              <a:rPr b="1" lang="en-NZ" sz="4400" spc="-1" strike="noStrike">
                <a:solidFill>
                  <a:srgbClr val="cc0000"/>
                </a:solidFill>
                <a:latin typeface="Arial"/>
              </a:rPr>
              <a:t>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4200" y="5070600"/>
            <a:ext cx="16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ey </a:t>
            </a:r>
            <a:r>
              <a:rPr b="1" lang="en-NZ" sz="3600" spc="-1" strike="noStrike">
                <a:solidFill>
                  <a:srgbClr val="cc0000"/>
                </a:solidFill>
                <a:latin typeface="Arial"/>
              </a:rPr>
              <a:t>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643280" y="4797360"/>
            <a:ext cx="3600720" cy="167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62560" y="508464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ho? … </a:t>
            </a:r>
            <a:r>
              <a:rPr b="1" lang="en-NZ" sz="4400" spc="-1" strike="noStrike">
                <a:solidFill>
                  <a:srgbClr val="cc0000"/>
                </a:solidFill>
                <a:latin typeface="Arial"/>
              </a:rPr>
              <a:t>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2800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GUL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Ministry of Education</cp:lastModifiedBy>
  <dcterms:modified xsi:type="dcterms:W3CDTF">2007-04-21T10:00:35Z</dcterms:modified>
  <cp:revision>22</cp:revision>
  <dc:subject/>
  <dc:title>Simile</dc:title>
</cp:coreProperties>
</file>